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2.wmf" ContentType="image/x-wmf"/>
  <Override PartName="/ppt/media/image34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5.png" ContentType="image/png"/>
  <Override PartName="/ppt/media/image2.png" ContentType="image/pn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9E4B-E641-4A12-B698-AC53A9CCDC08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E3A7-B90C-4A7C-A828-E5F5E6B13B5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D922-C631-4F19-80C8-EEBB3D875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D96A-4122-4C67-B2CE-C4B024C7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B210-F82F-419E-A01A-42DBB8CC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E5AC-FBC6-4144-A5C7-5A2D0B40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C8F5-39B3-487C-99A2-A425D0E70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F1BC-7004-4AEE-BD6C-E54E886B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CD65-BFFF-4DDE-90A1-4CB02614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9F10-BFC2-44B5-AD13-8F82914F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6735-DDA4-415F-BF65-C6BBBFC1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172A-F7DA-4AC9-9375-6E98AD40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A8E4-E086-47D3-86CB-2C7D16E8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9B63-6A13-4E3C-8B6D-25F9C494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5239-9BEF-4A46-9FDB-289A7580C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o1zW-JImRk" TargetMode="External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476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c Chemi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2411280" y="5013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Chemistry of Car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3059280" y="1197000"/>
            <a:ext cx="3141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2" descr=""/>
          <p:cNvPicPr/>
          <p:nvPr/>
        </p:nvPicPr>
        <p:blipFill>
          <a:blip r:embed="rId1"/>
          <a:stretch/>
        </p:blipFill>
        <p:spPr>
          <a:xfrm>
            <a:off x="1332000" y="182520"/>
            <a:ext cx="6912000" cy="643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 Naming Rules for Org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fix indicates the number of carbon atoms in the chain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643280" y="981000"/>
          <a:ext cx="4038840" cy="5029200"/>
        </p:xfrm>
        <a:graphic>
          <a:graphicData uri="http://schemas.openxmlformats.org/drawingml/2006/table">
            <a:tbl>
              <a:tblPr/>
              <a:tblGrid>
                <a:gridCol w="1724040"/>
                <a:gridCol w="2314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 of C’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88"/>
          <p:cNvSpPr/>
          <p:nvPr/>
        </p:nvSpPr>
        <p:spPr>
          <a:xfrm>
            <a:off x="468360" y="4005360"/>
            <a:ext cx="40384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ding indicates            the functional groups in the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=C “e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H “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k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-C single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Formula 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n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where “n” is the number of carbon atoms in the ch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correct prefix to indicate the number of carb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ing is “a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awing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3 ways to draw an organic comp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al Diagra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hows all bonds in the molecule.  (the H’s are generally left off to keep structures cle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ensed Struc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no bonds but all atoms are shown in sequence. (Must put bonds between C’s in for cyclo’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ne (Skeletal) Diagra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rbon atoms are implied by the vertices (including ends) in the structure, H’s are not shown but any other atoms are writ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0" descr=""/>
          <p:cNvPicPr/>
          <p:nvPr/>
        </p:nvPicPr>
        <p:blipFill>
          <a:blip r:embed="rId1"/>
          <a:stretch/>
        </p:blipFill>
        <p:spPr>
          <a:xfrm>
            <a:off x="5508720" y="4229280"/>
            <a:ext cx="3954240" cy="2871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2"/>
          <a:stretch/>
        </p:blipFill>
        <p:spPr>
          <a:xfrm>
            <a:off x="5702400" y="2565360"/>
            <a:ext cx="3456000" cy="234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457200" y="549360"/>
          <a:ext cx="8229600" cy="6048360"/>
        </p:xfrm>
        <a:graphic>
          <a:graphicData uri="http://schemas.openxmlformats.org/drawingml/2006/table">
            <a:tbl>
              <a:tblPr/>
              <a:tblGrid>
                <a:gridCol w="2743200"/>
                <a:gridCol w="3100320"/>
                <a:gridCol w="2386080"/>
              </a:tblGrid>
              <a:tr h="798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ct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en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9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t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1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an-1-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oxyetha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503280" y="1700280"/>
            <a:ext cx="2521080" cy="126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4"/>
          <a:stretch/>
        </p:blipFill>
        <p:spPr>
          <a:xfrm>
            <a:off x="6227640" y="1905120"/>
            <a:ext cx="2345040" cy="660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"/>
          <p:cNvPicPr/>
          <p:nvPr/>
        </p:nvPicPr>
        <p:blipFill>
          <a:blip r:embed="rId5"/>
          <a:stretch/>
        </p:blipFill>
        <p:spPr>
          <a:xfrm>
            <a:off x="826920" y="3500280"/>
            <a:ext cx="2197440" cy="1222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6"/>
          <a:stretch/>
        </p:blipFill>
        <p:spPr>
          <a:xfrm>
            <a:off x="503280" y="5300640"/>
            <a:ext cx="2628720" cy="12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1979640" y="189000"/>
            <a:ext cx="562140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ing Branched Hydrocarb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ntify the longest continuous chain or ring of carbon ato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mber the carbons from the end that gives the lowest sum for the numbers of the branch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each branch and indicate its location with a numb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st the branches in alpha order before the prefix for the number of carb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as separate numbers and hyphens separate numbers from wor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re is more than 1 of the same branch Greek prefixes are used to indicate this but the prefix is not counted in determining alpha ord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Common Bra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669960"/>
          <a:ext cx="8362800" cy="3627360"/>
        </p:xfrm>
        <a:graphic>
          <a:graphicData uri="http://schemas.openxmlformats.org/drawingml/2006/table">
            <a:tbl>
              <a:tblPr/>
              <a:tblGrid>
                <a:gridCol w="2090880"/>
                <a:gridCol w="2090520"/>
                <a:gridCol w="2090880"/>
                <a:gridCol w="20905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B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o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opropy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lo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o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t-buty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H</a:t>
                      </a:r>
                      <a:r>
                        <a:rPr b="0" lang="en-CA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hy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H</a:t>
                      </a:r>
                      <a:r>
                        <a:rPr b="0" lang="en-CA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CA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hy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NH</a:t>
                      </a:r>
                      <a:r>
                        <a:rPr b="0" lang="en-CA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i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O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x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NO</a:t>
                      </a:r>
                      <a:r>
                        <a:rPr b="0" lang="en-CA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t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7" name="Picture 125" descr=""/>
          <p:cNvPicPr/>
          <p:nvPr/>
        </p:nvPicPr>
        <p:blipFill>
          <a:blip r:embed="rId1"/>
          <a:stretch/>
        </p:blipFill>
        <p:spPr>
          <a:xfrm>
            <a:off x="5219640" y="765000"/>
            <a:ext cx="936720" cy="860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3" descr=""/>
          <p:cNvPicPr/>
          <p:nvPr/>
        </p:nvPicPr>
        <p:blipFill>
          <a:blip r:embed="rId2"/>
          <a:stretch/>
        </p:blipFill>
        <p:spPr>
          <a:xfrm>
            <a:off x="5003640" y="1773360"/>
            <a:ext cx="1368720" cy="13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k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1 or more C=C double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naming use the suffix “en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sition of the double bond is indicated for simple alkenes with 4 or more carbons or for all branched alke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sition of the double bond is indicated with a number in front of the “e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ky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at least 1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≡C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naming use the suffix “yn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sition of the triple bond is indicated for simple alkynes with 4 or more carbons or for all branched alky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sition of the triple bond is indicated with a number in front of the “y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amolecular Fo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ces of electrostatic attraction within a molec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ccur between the nuclei of the atoms and their electrons making up the molecule (i.e. covalent bo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ust be broken by chemical means and form new substances when bro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etermine the chemical properties of a sub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s of Is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mers are molecules with the same formula but different struc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different types of is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uctur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re in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ame organic fami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.e. 2 alkenes) but have a different arrangement of the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ction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me formula but are i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ifferent organic famil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i.e. an alcohol and eth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ometric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ffer in the placement of groups around a double bond.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cis-trans” isom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tical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rror images of each other that cannot be superimposed onto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ometric Isomers (“cis-trans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764640"/>
            <a:ext cx="81583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uble bonds prevent the rotation of atoms around the bond axis which creates 2 different molecul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“cis”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form of the molecule the groups attached to the double bond are on the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sam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side of the double bon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“trans”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form of the molecule the groups are attached on </a:t>
            </a: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different side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the double bon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is and trans goes with the bond NOT THE GROUPS ATTACHED!!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4608360" cy="38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General Rules for Naming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prefix indicates the number of carbon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ending indicates the functional groups in the structure (C=C “ene”,  –OH “ol”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y branches are indicated before the prefix for the number of carbons in alphabetical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low shows the order of different components in th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b050"/>
                </a:solidFill>
                <a:latin typeface="Arial"/>
              </a:rPr>
              <a:t>BRANCH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7030a0"/>
                </a:solidFill>
                <a:latin typeface="Arial"/>
              </a:rPr>
              <a:t># of C’s </a:t>
            </a:r>
            <a:r>
              <a:rPr b="0" lang="en-US" sz="2600" spc="-1" strike="noStrike">
                <a:solidFill>
                  <a:srgbClr val="00b0f0"/>
                </a:solidFill>
                <a:latin typeface="Arial"/>
              </a:rPr>
              <a:t>BOND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FUNCTIONAL GROU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in alpha order</a:t>
            </a: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      alpha</a:t>
            </a: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alpha or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808080"/>
                </a:solidFill>
                <a:latin typeface="Arial"/>
              </a:rPr>
              <a:t>(“oic acid” always la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ming Cyclo’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6091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longest continuous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“cyclo” in front of the prefix for the number of carbons. i.e. “cyclop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the ring to give you the lowest sum of all the numbers. You can start anywhere and go clockwise or counter clockw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is only 1 thing on the ring, NO NUMBER is used. (e.g. methylcyclopentane not 1-methylcyclopenta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Naming Hydrocarbon (Alkyl) Branch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549360"/>
            <a:ext cx="8229600" cy="56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all alkyl branches will be attached to the main chain at carbon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arbon 1 of the branch is attached to the main chain the branch is named using the prefix for the # of C’s with “yl” attached. (i.e. propyl, penty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t is not attached at carbon 1, you must indicate which carbon it is attached at as fol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an-2-yl, pentan-3-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o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5338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organic family which are derivatives of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benz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nzene has the molecular formula C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CA" sz="2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structural formula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of benzene consists of a 6-member carbon ring with 3 C=C double bo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6012000" y="1125360"/>
          <a:ext cx="2587320" cy="30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1125360"/>
                    <a:ext cx="2587320" cy="30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ructure of Benz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Benzene is a planar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carbon-carbon bonds in benzene are all the same length and energy which is evidence that the bonds are not true double and single 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f the bonds are not true single and double bonds what are the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carbon-carbon bonds in benzene are all 139 pm which is intermediate between the length of a C-C single bond and a C=C double bond (double bonds are short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is indicates that the electrons that make up the “double bonds” in benzene are actually delocalized (i.e. shared) around all six carbon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915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s arrangement of the electrons is indicated in the </a:t>
            </a: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LINE DIAGRAM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by placing a circle in the centre of the 6-member 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lternatively, benzene can be represented as bel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3419640" y="2997360"/>
          <a:ext cx="2331720" cy="26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9640" y="2997360"/>
                    <a:ext cx="2331720" cy="26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molecular Fo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Forces of attraction between two molecules  (i.e. London dispersion forces, dipole–dipole interactions or hydrogen bo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uch weaker than Intramolecular forces and are much easier to bre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hysical changes (changes of state) break or weaken these for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Do not form new substances when bro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se forces determine the physical properties of a subst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ing Aro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700" spc="-1" strike="noStrike">
                <a:solidFill>
                  <a:srgbClr val="000000"/>
                </a:solidFill>
                <a:latin typeface="Arial"/>
              </a:rPr>
              <a:t>Using benzene as the main chai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Identify the groups attached and number according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For compounds with 2 groups attached, the following prefixes may be used instead of the numbers; 1,2 = ortho (o), 1,3 = meta (m) and 1,4 = para (p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5"/>
          <p:cNvGraphicFramePr/>
          <p:nvPr/>
        </p:nvGraphicFramePr>
        <p:xfrm>
          <a:off x="324000" y="328680"/>
          <a:ext cx="8351640" cy="28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8680"/>
                    <a:ext cx="8351640" cy="28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8360" y="346860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When the benzene ring is not the main chain, </a:t>
            </a:r>
            <a:r>
              <a:rPr b="1" i="1" lang="en-CA" sz="3200" spc="-1" strike="noStrike">
                <a:solidFill>
                  <a:srgbClr val="000000"/>
                </a:solidFill>
                <a:latin typeface="Arial"/>
              </a:rPr>
              <a:t>phenyl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is used to indicate a benzene ring as a bran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Names for Aroma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439236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coh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contain the hydroxy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0" lang="en-CA" sz="2700" spc="-1" strike="noStrike">
                <a:solidFill>
                  <a:srgbClr val="000000"/>
                </a:solidFill>
                <a:latin typeface="Arial"/>
              </a:rPr>
              <a:t> (-OH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cohols can be classified by the position of the OH grou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1. Primar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-OH is at the end of the chai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tan-1-o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2. Secondar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-OH is attached to a C with one 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tan-2-o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C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(OH)C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3.  Tertiar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-OH is attached to a C with no H’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x.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ethylpropan-2-ol C(CH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OH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ing Alcoh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836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name of the main chain containing the hydroxyl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the ‘e’ on the end of the main chain and add ‘ol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 the number to which the -OH is bonded to starting at 3 carbons using the same rules as for a double or triple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multiple -OH groups indicate this using the appropriate Greek prefi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the R-O-R’ functional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ongest carbon chain connected to the O is the bas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oxy” to the end of the prefix for the other carbon chain (e.g methoxy, propan-2-oxy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 the position of the ether linkage using a number in front of the “oxy branch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ox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the R-O-O-R’ functional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unstable and break down spontaneously to form the ether and oxygen 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the “yl” forms of the hydrocarbon chains in alpha order, followed by the word per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dehydes and Ke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692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dehydes and ketones both contain the carbonyl group (C=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ldehydes, the carbonyl group is attached to the end carb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ketones, the carbonyl group is attached to a carbon that is not on the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considered functional isomers of each 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6"/>
          <p:cNvGrpSpPr/>
          <p:nvPr/>
        </p:nvGrpSpPr>
        <p:grpSpPr>
          <a:xfrm>
            <a:off x="1760400" y="4363920"/>
            <a:ext cx="2529000" cy="2087640"/>
            <a:chOff x="1760400" y="4363920"/>
            <a:chExt cx="2529000" cy="2087640"/>
          </a:xfrm>
        </p:grpSpPr>
        <p:pic>
          <p:nvPicPr>
            <p:cNvPr id="133" name="Picture 2" descr=""/>
            <p:cNvPicPr/>
            <p:nvPr/>
          </p:nvPicPr>
          <p:blipFill>
            <a:blip r:embed="rId1"/>
            <a:stretch/>
          </p:blipFill>
          <p:spPr>
            <a:xfrm>
              <a:off x="1760400" y="4363920"/>
              <a:ext cx="2529000" cy="17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Box 3"/>
            <p:cNvSpPr/>
            <p:nvPr/>
          </p:nvSpPr>
          <p:spPr>
            <a:xfrm>
              <a:off x="2267280" y="5991840"/>
              <a:ext cx="151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pa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7"/>
          <p:cNvGrpSpPr/>
          <p:nvPr/>
        </p:nvGrpSpPr>
        <p:grpSpPr>
          <a:xfrm>
            <a:off x="5148360" y="4521240"/>
            <a:ext cx="2448000" cy="1858680"/>
            <a:chOff x="5148360" y="4521240"/>
            <a:chExt cx="2448000" cy="1858680"/>
          </a:xfrm>
        </p:grpSpPr>
        <p:pic>
          <p:nvPicPr>
            <p:cNvPr id="136" name="Picture 3" descr=""/>
            <p:cNvPicPr/>
            <p:nvPr/>
          </p:nvPicPr>
          <p:blipFill>
            <a:blip r:embed="rId2"/>
            <a:stretch/>
          </p:blipFill>
          <p:spPr>
            <a:xfrm>
              <a:off x="5148360" y="4521240"/>
              <a:ext cx="244800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Box 5"/>
            <p:cNvSpPr/>
            <p:nvPr/>
          </p:nvSpPr>
          <p:spPr>
            <a:xfrm>
              <a:off x="5544360" y="592020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pan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ing Aldehy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703440"/>
            <a:ext cx="822960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the longest chain containing the carbonyl group, remove the “e” and add “al” as the e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=O is always carbon 1. (unless it is with a carboxylic aci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ing Ke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the longest chain containing the carbonyl group, remove the “e” and add “one” as the en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ecessary indicate the position of the carbonyl using the lowest numerical coeffici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substituents are numbered so the sum is the low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ndon Dispersion Fo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forces are based on the simultaneous attraction of the electrons of one molecule by the positive nuclei of neighbouring molec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ength of the force is directly related to the number of electrons and protons in a given molec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ater the number of electrons and protons the greater the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boxylic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the carboxyl functional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longest chain containing the carboxyl group, remove the “e” and add “oic” ac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rboxyl group is always carbon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“oic acid” always goes last in the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1280" y="692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 for tastes and odo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the ester lin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6227640" y="476280"/>
          <a:ext cx="2210040" cy="13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476280"/>
                    <a:ext cx="221004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6"/>
          <p:cNvSpPr/>
          <p:nvPr/>
        </p:nvSpPr>
        <p:spPr>
          <a:xfrm>
            <a:off x="468360" y="2060640"/>
            <a:ext cx="78487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from an alcohol and a carboxylic ac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“yl” form of the alcohol proceeded with the “oate” form of the carboxylic ac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. “alkyl oat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Object 5"/>
          <p:cNvGraphicFramePr/>
          <p:nvPr/>
        </p:nvGraphicFramePr>
        <p:xfrm>
          <a:off x="900000" y="907920"/>
          <a:ext cx="3745080" cy="233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907920"/>
                    <a:ext cx="3745080" cy="23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7"/>
          <p:cNvGraphicFramePr/>
          <p:nvPr/>
        </p:nvGraphicFramePr>
        <p:xfrm>
          <a:off x="4500720" y="3357720"/>
          <a:ext cx="3740040" cy="261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3357720"/>
                    <a:ext cx="3740040" cy="26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ontain the amino functional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ypes of A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imary: Contain 1 carbon chain (2 H’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condary: Contain 2 carbon chains (1 H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rtiary: Contain 3 carbon chains (no H’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ing Am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the longest carbon chain and use it as the base n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the other alkyl chains on the N in alpha order with “N” in front of each to indicate that they are on the nitrogen and not the main ch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the “e” from the base name and a number to indicate where the amino is attached and then add “ami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Object 4"/>
          <p:cNvGraphicFramePr/>
          <p:nvPr/>
        </p:nvGraphicFramePr>
        <p:xfrm>
          <a:off x="684360" y="476280"/>
          <a:ext cx="1726920" cy="16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76280"/>
                    <a:ext cx="172692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13"/>
          <p:cNvGraphicFramePr/>
          <p:nvPr/>
        </p:nvGraphicFramePr>
        <p:xfrm>
          <a:off x="5292720" y="547560"/>
          <a:ext cx="2232000" cy="176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92720" y="547560"/>
                    <a:ext cx="223200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14"/>
          <p:cNvGraphicFramePr/>
          <p:nvPr/>
        </p:nvGraphicFramePr>
        <p:xfrm>
          <a:off x="4222800" y="2316240"/>
          <a:ext cx="4224240" cy="320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2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22800" y="2316240"/>
                    <a:ext cx="4224240" cy="32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15"/>
          <p:cNvGraphicFramePr/>
          <p:nvPr/>
        </p:nvGraphicFramePr>
        <p:xfrm>
          <a:off x="611280" y="4076640"/>
          <a:ext cx="2376360" cy="160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4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1280" y="4076640"/>
                    <a:ext cx="2376360" cy="16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16"/>
          <p:cNvGraphicFramePr/>
          <p:nvPr/>
        </p:nvGraphicFramePr>
        <p:xfrm>
          <a:off x="3348000" y="4724280"/>
          <a:ext cx="5508720" cy="311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6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348000" y="4724280"/>
                    <a:ext cx="5508720" cy="3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Box 7"/>
          <p:cNvSpPr/>
          <p:nvPr/>
        </p:nvSpPr>
        <p:spPr>
          <a:xfrm>
            <a:off x="395280" y="2492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ethylpentan-2-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836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the amide link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ally similar to e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inkage joins amino acids together to create polypeptid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Object 3"/>
          <p:cNvGraphicFramePr/>
          <p:nvPr/>
        </p:nvGraphicFramePr>
        <p:xfrm>
          <a:off x="5796000" y="765000"/>
          <a:ext cx="2025720" cy="23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765000"/>
                    <a:ext cx="202572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aming Am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me has 2 pa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se Nam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the number of carbons in the chain containing the carbony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amide to the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fo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e any groups attached the nitrogen using N in place of a numb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Object 4"/>
          <p:cNvGraphicFramePr/>
          <p:nvPr/>
        </p:nvGraphicFramePr>
        <p:xfrm>
          <a:off x="900000" y="260280"/>
          <a:ext cx="2592360" cy="14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60280"/>
                    <a:ext cx="2592360" cy="14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5"/>
          <p:cNvGraphicFramePr/>
          <p:nvPr/>
        </p:nvGraphicFramePr>
        <p:xfrm>
          <a:off x="755640" y="2060640"/>
          <a:ext cx="3311640" cy="4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2060640"/>
                    <a:ext cx="33116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6"/>
          <p:cNvGraphicFramePr/>
          <p:nvPr/>
        </p:nvGraphicFramePr>
        <p:xfrm>
          <a:off x="5364000" y="189000"/>
          <a:ext cx="2374920" cy="18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64000" y="189000"/>
                    <a:ext cx="237492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7"/>
          <p:cNvGraphicFramePr/>
          <p:nvPr/>
        </p:nvGraphicFramePr>
        <p:xfrm>
          <a:off x="5076720" y="2060640"/>
          <a:ext cx="338472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76720" y="2060640"/>
                    <a:ext cx="338472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8"/>
          <p:cNvGraphicFramePr/>
          <p:nvPr/>
        </p:nvGraphicFramePr>
        <p:xfrm>
          <a:off x="2627280" y="2708280"/>
          <a:ext cx="3600360" cy="2103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627280" y="2708280"/>
                    <a:ext cx="3600360" cy="21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9"/>
          <p:cNvGraphicFramePr/>
          <p:nvPr/>
        </p:nvGraphicFramePr>
        <p:xfrm>
          <a:off x="1835280" y="4869000"/>
          <a:ext cx="4967280" cy="326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5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35280" y="4869000"/>
                    <a:ext cx="4967280" cy="3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rganic Re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pole-Dipole Fo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 between polar molecules having dipo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es with dipoles are characterized by oppositely charged ends that are due to an unequal distribution of charge on the molec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olarity of a molecule is determined by both the polarity of the bond and the shape of the molec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forces are based on the simultaneous attraction of the electrons of one dipole by the dipoles of neighbouring molec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ength of the force is related to the polarity of the given molecu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 organic families will under go combu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e Combu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c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omplete Combu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c +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(g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(g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tom or group on the chain is replaced by another. (SWITCH!! 1 on 1 of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milies that Participate in 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k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: hal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yst: UV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: haloalkane + hydrogen hal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oma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) With Hal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yst: FeB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Al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: halobenzene + hydrogen ha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) With Alkyl Ha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yst: Al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: alkyl benzene + hydrogen ha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) With Nit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yst: sulphur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: nitrobenzene +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coh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ha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yst: Zn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Lucas Rea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: alkyl halide +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is reaction is a qualitative test for the different types of alcohols because the rate of the reaction differs greatly for a primary, secondary and tertiary alcohol due to the solubility of the resulting alkyl hal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ertiary Alcohol </a:t>
            </a:r>
            <a:r>
              <a:rPr b="0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urns cloudy immediately (the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lkyl halide is not soluble in water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and precipitates 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econdary Alcohol </a:t>
            </a:r>
            <a:r>
              <a:rPr b="0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urns cloudy after 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imary Alcohol </a:t>
            </a:r>
            <a:r>
              <a:rPr b="0" lang="en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akes much longer than 5 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inutes to turn clo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 E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2 binary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yst: heat (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s: 2 alkyl halides +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eparing Amines (Ammon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lkyl ha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talyst: n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s: amine + hydrogen ha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ition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groups (or atoms) to the chain by breaking a pi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k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) With Hydro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yst: platinum (P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: alk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) With Hal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yst: CC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: haloalkane (2 halogen ato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Hydrogen Halide 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yst: 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: haloalkane (1 halogen ato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Water 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yst: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00 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: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* these reactions follow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ovnikov’s Ru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re the H gets added to the C in the double bond that started with the most H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ition Reactions cont’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ky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s alkenes but 2 moles of each to fully saturate the triple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dehydes and Ket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drogen (aka a redu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yst: Pt and 101 M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: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dehyde = primary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tone = secondary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al of 2 atoms/groups to form a double bo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coh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yst: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10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s: alkene +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kyl hal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: hydroxide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: alkene + water + halide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drogen B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29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forces are a type of dipole – dipole inter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cur between Hydrogen atoms in one molecule and highly electronegative atoms (F, O, N) in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rongest of the Intermolecular forces and are about 1/10 the strength of a covalent b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62080"/>
            <a:ext cx="822960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loss of electrons by the carbon at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izing agents will usually result in a colour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hromat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romium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ange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gre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anganat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nganese (IV) ox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purple)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brow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k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izing agent: KM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: “diol” (each C in the double bond gets an OH gro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coh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izing agent: KM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:  depends on type of alcoh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ary Alcohol = aldehyde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rboxyl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ary Alcohol = ke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tiary Alcohol = NO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dehy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t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xyl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ince ketones can not be oxidized, oxidation reactions can be used as a qualitative test to distinguish between an aldehyde and ket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xidizing Ag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) KMn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urple to brown in aldehyde, stay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le in ket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) 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ange to green in aldehyde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ys orange in ket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hling’s S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copper (II) solution): blue to an orangish brown precipitate (i.e. copper metal) in an aldehyde, stays blue in a ke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llen’s Reag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ilver ions in ammonia): clear and colourless to a black precipitate with a silver mirrored coating on the glassware in an aldehyde, stays colourless in a ket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as the silver mirror t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lver Mirror Vide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Uo1zW-JIm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tp://www.youtube.com/watch?NR=1&amp;feature=endscreen&amp;v=hUX_cpFWN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 from pac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densation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720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ing 2 molecules together by removing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H” for the water comes from 1 molecule and the “OH” comes from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coh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: another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alyst: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4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°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s: ether +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: a carboxyl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talyst: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s: ester +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3510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ines (1° and 2° on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: carboxylic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talyst: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+ he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ducts: amide +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ydrolysis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84456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ting apart of a molecule by adding wa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ver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: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talyst: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s: alcohol + carboxyl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rrever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th: water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s: alcohol + carboxylate ion + metal 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m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: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atalyst: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+ 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s: amine + carboxylic ac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xn.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26 # 1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27 # 9-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31 # 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37 # 1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39 # 4-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53 #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45 # 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62 # 5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55 # 1-10a) 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72 # 7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74 # 30-32,35,37-44,4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121 # 38,63,65,71,72,74,103,108,11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racteristics of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of carbon atoms in chains or r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covalent bo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le intermolecular force is London Disper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olecular formula can represent many different compounds (isome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ies are determined by the presence of certain groups within the compound (functional group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y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920" y="549360"/>
            <a:ext cx="8642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following s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2 pg 116-1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you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 polym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n addition polymer is and how it is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 condensation polymer is and how one is form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mer cross-lin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able to put monomers together to form a polymer and identify the monomer given the poly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120 #13, 15-18, pg 121 353-62, pg 127 #1-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are there so many Organic Compoun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has 4 valence electrons therefore 4 bo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readily bonds with other carbon atoms forming chains, branched or cyclic comp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 also readily bonds with other elements such as O, N, S, halog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50920" y="735120"/>
            <a:ext cx="8569080" cy="57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2:58:48Z</dcterms:created>
  <dc:creator>wilsonj</dc:creator>
  <dc:description/>
  <dc:language>en-US</dc:language>
  <cp:lastModifiedBy>Wilson, Jen</cp:lastModifiedBy>
  <dcterms:modified xsi:type="dcterms:W3CDTF">2015-04-02T14:04:58Z</dcterms:modified>
  <cp:revision>80</cp:revision>
  <dc:subject/>
  <dc:title>Organic Chemistry</dc:title>
</cp:coreProperties>
</file>